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2.wmf" ContentType="image/x-wmf"/>
  <Override PartName="/ppt/media/image6.gif" ContentType="image/gif"/>
  <Override PartName="/ppt/media/image14.wmf" ContentType="image/x-wmf"/>
  <Override PartName="/ppt/media/image3.gif" ContentType="image/gif"/>
  <Override PartName="/ppt/media/image11.wmf" ContentType="image/x-wmf"/>
  <Override PartName="/ppt/media/image1.jpeg" ContentType="image/jpeg"/>
  <Override PartName="/ppt/media/image4.gif" ContentType="image/gif"/>
  <Override PartName="/ppt/media/image12.wmf" ContentType="image/x-wmf"/>
  <Override PartName="/ppt/media/image5.gif" ContentType="image/gif"/>
  <Override PartName="/ppt/media/image7.jpeg" ContentType="image/jpeg"/>
  <Override PartName="/ppt/media/image10.jpeg" ContentType="image/jpeg"/>
  <Override PartName="/ppt/media/image13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B0E1-6504-4297-A3D4-8FD63F84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A46-59DB-4FD9-9836-C479112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6BA-6E70-4070-9FB7-68FB60190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91F-0712-4697-87E8-4837B4C3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D31B4-6A51-46A2-8D83-AADFC903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70FE1-19FF-4BA4-A5A4-CC31C6F1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B2AB-B3A7-4CC0-8201-CC38808D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FB01B-FDBD-4668-B87E-1DA49594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67090-8E24-4948-8704-3BBB5533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D3B5D-DC3E-4448-9B2F-CC241C30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6882E-15E9-45E3-8C5C-84083A5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204-41B4-468F-9775-1BA893D6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A600-9412-43EF-A620-37429166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CB7A8-A199-4693-AECF-B1740FE3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19EC1-34D9-45E8-9D50-51E2255A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BE85B-ADD0-4419-B653-EB306047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0DCFC-49BD-438A-96A4-73B8CABF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A2-AC1E-4559-9B6A-252F0195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35A-683F-46C2-91EF-2B489E00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843-B8C9-4ECC-8E8B-B65E426D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9A4-5D56-46EE-8CE5-2D7ACEC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365-E0AF-4B3D-8A5D-3C5A9A8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646-8634-46BB-9E0A-7B3F6F88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CD32-E280-4C92-89BB-5696FECE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D3C2-6F54-4E47-A025-38F3A3701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2D8-CFD0-4A1D-A024-E6CE194F74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48692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cc"/>
                </a:solidFill>
                <a:latin typeface="Tahoma"/>
              </a:rPr>
              <a:t>Проект по физической культуре</a:t>
            </a:r>
            <a:r>
              <a:rPr b="0" lang="ru-RU" sz="40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c600"/>
                </a:solidFill>
                <a:latin typeface="Tahoma"/>
              </a:rPr>
              <a:t>Яранцева Алиса,5б клас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У «Средняя общеобразовательная школа №10 г. Йошкар-Олы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2008год</a:t>
            </a:r>
            <a:r>
              <a:rPr b="0" lang="ru-RU" sz="2800" spc="-1" strike="noStrike">
                <a:solidFill>
                  <a:srgbClr val="6666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ще одна разновидность плавания – самый молодой его вид – синхронное плавание. Синхронное плавание – это акробатические упражнения в воде, выполняемые под музыку. Это очень красивый вид плавания, зрители любуются на соревнованиях, как ритмично и четко выполняют участницы синхронного плавания различные акробатические фигуры под водой и над ее поверхност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21" descr="Спорт"/>
          <p:cNvPicPr/>
          <p:nvPr/>
        </p:nvPicPr>
        <p:blipFill>
          <a:blip r:embed="rId1"/>
          <a:stretch/>
        </p:blipFill>
        <p:spPr>
          <a:xfrm>
            <a:off x="6804000" y="5300640"/>
            <a:ext cx="1655640" cy="1407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32720" y="-3890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137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ванье очень полезно для здоровья. Оно развивает  мышцы, координацию движений, укрепляет нервы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68000" y="5845320"/>
            <a:ext cx="716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6" descr="j0399418"/>
          <p:cNvPicPr/>
          <p:nvPr/>
        </p:nvPicPr>
        <p:blipFill>
          <a:blip r:embed="rId1"/>
          <a:stretch/>
        </p:blipFill>
        <p:spPr>
          <a:xfrm>
            <a:off x="1116000" y="2349360"/>
            <a:ext cx="7056360" cy="4175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9280" y="2204640"/>
            <a:ext cx="53290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j0397062"/>
          <p:cNvPicPr/>
          <p:nvPr/>
        </p:nvPicPr>
        <p:blipFill>
          <a:blip r:embed="rId1"/>
          <a:stretch/>
        </p:blipFill>
        <p:spPr>
          <a:xfrm>
            <a:off x="0" y="0"/>
            <a:ext cx="1400040" cy="1405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j0319370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33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312732"/>
          <p:cNvPicPr/>
          <p:nvPr/>
        </p:nvPicPr>
        <p:blipFill>
          <a:blip r:embed="rId3"/>
          <a:stretch/>
        </p:blipFill>
        <p:spPr>
          <a:xfrm>
            <a:off x="0" y="5581800"/>
            <a:ext cx="1585800" cy="1276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197737"/>
          <p:cNvPicPr/>
          <p:nvPr/>
        </p:nvPicPr>
        <p:blipFill>
          <a:blip r:embed="rId4"/>
          <a:stretch/>
        </p:blipFill>
        <p:spPr>
          <a:xfrm>
            <a:off x="7726320" y="5229360"/>
            <a:ext cx="1417680" cy="1628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5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b4b9ea"/>
                </a:solidFill>
                <a:uFillTx/>
                <a:latin typeface="Tahoma"/>
              </a:rPr>
              <a:t>ПЛАВ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j0324506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908000" y="1413000"/>
            <a:ext cx="5678640" cy="511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Обо мне вкратц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не 11 лет, из них 9 лет я занимаюсь плаванием. Сейчас у меня 2-ой  взрослый разряд. Я пошла в спортивную школу в 6 лет. Вначале я ходила в «Дельфин», а сейчас я хожу во «Дворец водных видов спорта». Мой любимый стиль брасс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AutoShape 4"/>
          <p:cNvSpPr/>
          <p:nvPr/>
        </p:nvSpPr>
        <p:spPr>
          <a:xfrm flipH="1" rot="21479400">
            <a:off x="-1249560" y="2503440"/>
            <a:ext cx="71280" cy="73080"/>
          </a:xfrm>
          <a:custGeom>
            <a:avLst/>
            <a:gdLst>
              <a:gd name="textAreaLeft" fmla="*/ 16560 w 71280"/>
              <a:gd name="textAreaRight" fmla="*/ 54720 w 71280"/>
              <a:gd name="textAreaTop" fmla="*/ 7560 h 73080"/>
              <a:gd name="textAreaBottom" fmla="*/ 46440 h 73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-468360" y="907920"/>
            <a:ext cx="71640" cy="217440"/>
          </a:xfrm>
          <a:prstGeom prst="lightningBol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291960"/>
            <a:ext cx="735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66ff"/>
                </a:solidFill>
                <a:latin typeface="Tahoma"/>
              </a:rPr>
              <a:t>ПЛАВАНИ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41036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инный бассей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корость плывём мы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уда и сю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дельф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ыстрее форе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ыву, чтоб ме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огнать не успел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 поворо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а поворот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жели соперн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ня обойдё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т, я не сдам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му никогда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сказочный мир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0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лубая в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7" descr="j0303466"/>
          <p:cNvPicPr/>
          <p:nvPr/>
        </p:nvPicPr>
        <p:blipFill>
          <a:blip r:embed="rId1"/>
          <a:stretch/>
        </p:blipFill>
        <p:spPr>
          <a:xfrm>
            <a:off x="5867280" y="278136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68480" y="291960"/>
            <a:ext cx="6275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Tahoma"/>
              </a:rPr>
              <a:t>Плав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Плавание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вестно человеку с древнейших времён, оно возникло как необходимое для человека умение выживать, а популярным видом спорта стало только в прошлом веке. </a:t>
            </a:r>
            <a:r>
              <a:rPr b="0" lang="ru-RU" sz="3200" spc="-1" strike="noStrike">
                <a:solidFill>
                  <a:srgbClr val="ff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10d0ebae5003"/>
          <p:cNvPicPr/>
          <p:nvPr/>
        </p:nvPicPr>
        <p:blipFill>
          <a:blip r:embed="rId1"/>
          <a:stretch/>
        </p:blipFill>
        <p:spPr>
          <a:xfrm>
            <a:off x="6877080" y="620640"/>
            <a:ext cx="1079640" cy="10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йчас плавание входит в программу олимпийских игр. Пловцы соревнуются между собой на коротких и длинных дистанциях: самая короткая всего 25 метров, а самая длинная 1500 метров. Но, конечно, дорожек в 1500 метров нет, иначе пришлось бы строить бассейны длиной в целую улицу! Спортсмен, проплыв по своей дорожке от одного края бассейна до другого, должен совершить кувырок и поплыть в обратном направлении. И так несколько раз. При кувырке он, по правилам, обязательно должен коснуться руками и ногами стенки бассейн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" descr="j0318099"/>
          <p:cNvPicPr/>
          <p:nvPr/>
        </p:nvPicPr>
        <p:blipFill>
          <a:blip r:embed="rId1"/>
          <a:stretch/>
        </p:blipFill>
        <p:spPr>
          <a:xfrm>
            <a:off x="4859280" y="0"/>
            <a:ext cx="3240000" cy="218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четыре вида плавания: вольный стиль (кроль), плавание на спине, брасс и баттерфля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ль – самый быстрый вид плаванья. Тело пловца при плавании этим видом выпрямлено, а руки и ноги непрерывно работают, позволяя пловцу сохранять равновесие. Если смотреть в это время на спортсмена, то кажется, что он как будто ползет по земле, захватывая её то правой, то левой рукой, выброшенной вперё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j0303468"/>
          <p:cNvPicPr/>
          <p:nvPr/>
        </p:nvPicPr>
        <p:blipFill>
          <a:blip r:embed="rId1"/>
          <a:stretch/>
        </p:blipFill>
        <p:spPr>
          <a:xfrm>
            <a:off x="2627280" y="189000"/>
            <a:ext cx="3672000" cy="17301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ттерфляй в переводе с английского языка обозначает «бабочка». И действительно, руки  пловца порхают над водой словно крылья. И ещё спортсмен, плывя баттерфляем, напоминает прыгающего над водой дельфина. Тело пловца при этом стиле совершает волнообразные движения, поэтому баттерфляй, пожалуй, самый красивый вид плавань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Урок плавания"/>
          <p:cNvPicPr/>
          <p:nvPr/>
        </p:nvPicPr>
        <p:blipFill>
          <a:blip r:embed="rId1"/>
          <a:stretch/>
        </p:blipFill>
        <p:spPr>
          <a:xfrm>
            <a:off x="2987640" y="431172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расс – самый простой и медленный вид плаванья, но позволяет экономно расходовать силы спортсмена. При плавании брассом спортсмен похож на лягушку. При движении он разводит руки сначала вперёд, потом в стороны, после чего вновь вытягивает их вперёд, а ногами он производит полукруговые движения, отталкиваясь от 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Олимп"/>
          <p:cNvPicPr/>
          <p:nvPr/>
        </p:nvPicPr>
        <p:blipFill>
          <a:blip r:embed="rId1"/>
          <a:stretch/>
        </p:blipFill>
        <p:spPr>
          <a:xfrm>
            <a:off x="2987640" y="4724280"/>
            <a:ext cx="2952720" cy="1729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25:08Z</dcterms:created>
  <dc:creator>Acer</dc:creator>
  <dc:description/>
  <dc:language>en-US</dc:language>
  <cp:lastModifiedBy>Ирина Петровна</cp:lastModifiedBy>
  <dcterms:modified xsi:type="dcterms:W3CDTF">2009-08-17T15:12:06Z</dcterms:modified>
  <cp:revision>13</cp:revision>
  <dc:subject/>
  <dc:title>Проект по физической культуре.</dc:title>
</cp:coreProperties>
</file>